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69F-31FF-42AC-B401-2750C8C0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804-8113-4356-A5D1-909988B5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4A3-5771-45C7-97BD-AFE48AD5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9F9-E7AE-4490-A5A9-1896241F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0B3-C8C1-49B8-A84C-8C288E57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3AD-321D-472C-A95C-C93B0AB2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157-5586-4409-ADA0-B3AD32CE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68D-6610-441F-8E0B-0EDAC717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B5E-23D7-4911-B577-DCC7D29E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777-55D6-4C9A-BB0D-26AD3923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DD5-6109-43F4-BA5D-7FD82BAB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655-A6AF-4407-8EBA-638A6413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72D9-27E3-40A2-A9CB-CF66857A7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" Target="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6" descr="colorblind1_bw.jpg"/>
          <p:cNvPicPr/>
          <p:nvPr/>
        </p:nvPicPr>
        <p:blipFill>
          <a:blip r:embed="rId1"/>
          <a:stretch/>
        </p:blipFill>
        <p:spPr>
          <a:xfrm>
            <a:off x="4419720" y="1905120"/>
            <a:ext cx="396216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d.umn.edu/cla/faculty/troufs/anth4616/images/colorblind1.jpg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793800" y="571500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blindness is an example of a sex-linked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womancarrier.jpg"/>
          <p:cNvPicPr/>
          <p:nvPr/>
        </p:nvPicPr>
        <p:blipFill>
          <a:blip r:embed="rId1"/>
          <a:stretch/>
        </p:blipFill>
        <p:spPr>
          <a:xfrm>
            <a:off x="457200" y="396252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200040" y="533160"/>
            <a:ext cx="56386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 = hemophilia, a sex-linked dis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, can you answ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dad aff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m aff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have the disea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are carri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are healthy? (careful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members.tripod.com/~dnascienceandtech/malehemo.jpg"/>
          <p:cNvPicPr/>
          <p:nvPr/>
        </p:nvPicPr>
        <p:blipFill>
          <a:blip r:embed="rId2"/>
          <a:stretch/>
        </p:blipFill>
        <p:spPr>
          <a:xfrm>
            <a:off x="533520" y="68580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DIGREE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other way to study inheri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6" descr="xlinked.gif"/>
          <p:cNvPicPr/>
          <p:nvPr/>
        </p:nvPicPr>
        <p:blipFill>
          <a:blip r:embed="rId1"/>
          <a:stretch/>
        </p:blipFill>
        <p:spPr>
          <a:xfrm>
            <a:off x="457200" y="2371680"/>
            <a:ext cx="4038480" cy="2982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you think the F1 generation (line II) # 2 and #5 offspring repres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draw the Punnett Square for the Parent generation? (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9"/>
          <p:cNvSpPr/>
          <p:nvPr/>
        </p:nvSpPr>
        <p:spPr>
          <a:xfrm>
            <a:off x="1371600" y="35053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3733920" y="35053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read a pedigre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6" descr="pedigree key.gif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4952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5334120" y="53341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ier 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ier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5562720" y="54100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5410080" y="5257800"/>
            <a:ext cx="30492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 flipH="1">
            <a:off x="5562000" y="6019920"/>
            <a:ext cx="7596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5410080" y="5943600"/>
            <a:ext cx="38124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dig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how traits are passed down through many gen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mostly on ph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the actual offsp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nett squares show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ssi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ly only works well for single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polygenic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works for inherited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factors play a large role in who we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heriting Dise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like physical trait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eases can be inherited on our chromosom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, just like physical traits, some are X-linked, some are recessive, some are dominant or codomin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 Disorder Project 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gile x syndr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ucher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schene Muscular Dys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fan syndr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rler syndr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y-Sac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binis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ystic Fibr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ckle cell ane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K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u Gehrig’s dise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i du Chat syndr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untington Dise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urner’s syndr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linefelter syndr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wn syndr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nconi ane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C:\Users\jolill\AppData\Local\Microsoft\Windows\Temporary Internet Files\Content.IE5\ZIHHMIK6\MPj04330500000[1].jpg"/>
          <p:cNvPicPr/>
          <p:nvPr/>
        </p:nvPicPr>
        <p:blipFill>
          <a:blip r:embed="rId1"/>
          <a:stretch/>
        </p:blipFill>
        <p:spPr>
          <a:xfrm>
            <a:off x="533520" y="3962520"/>
            <a:ext cx="2819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Chromosomal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X-Inactivation </a:t>
            </a:r>
            <a:r>
              <a:rPr b="1" lang="en-US" sz="3200" spc="-1" strike="noStrike">
                <a:solidFill>
                  <a:srgbClr val="953735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men only need one X chromosome, do women need both X’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ot, which one “works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Non-disjunction  </a:t>
            </a:r>
            <a:r>
              <a:rPr b="1" lang="en-US" sz="3200" spc="-1" strike="noStrike">
                <a:solidFill>
                  <a:srgbClr val="953735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w gametes can end up with the wrong # of chromosomes in mei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-Chromosome Inac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 are XY: One X chromosome is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men are XX:  The “extra” copy is not needed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ndenses into a “Barr body.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, you have trillions of cells.  Which X chromosome that “switches off” can vary in each cel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barr.gif"/>
          <p:cNvPicPr/>
          <p:nvPr/>
        </p:nvPicPr>
        <p:blipFill>
          <a:blip r:embed="rId1"/>
          <a:stretch/>
        </p:blipFill>
        <p:spPr>
          <a:xfrm>
            <a:off x="4114800" y="4114800"/>
            <a:ext cx="3895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aic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cat barr.jpg"/>
          <p:cNvPicPr/>
          <p:nvPr/>
        </p:nvPicPr>
        <p:blipFill>
          <a:blip r:embed="rId1"/>
          <a:stretch/>
        </p:blipFill>
        <p:spPr>
          <a:xfrm>
            <a:off x="533520" y="121932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disj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37124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coming apar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mologous chromosomes fail to separate in mei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lt in Trisomy or Monoso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linefelter syndrome (trisomy X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 syndrome (trisomy 2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ers syndrome (X_ monosom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4" descr="nondisjunction.jpg"/>
          <p:cNvPicPr/>
          <p:nvPr/>
        </p:nvPicPr>
        <p:blipFill>
          <a:blip r:embed="rId1"/>
          <a:stretch/>
        </p:blipFill>
        <p:spPr>
          <a:xfrm>
            <a:off x="4343400" y="228600"/>
            <a:ext cx="4572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8840" y="685440"/>
            <a:ext cx="3809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Human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7440" y="2895120"/>
            <a:ext cx="3352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Chapter 14-1, 14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Huma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scq.ubc.ca/wp-content/uploads/2006/08/molecular-machine.gif"/>
          <p:cNvPicPr/>
          <p:nvPr/>
        </p:nvPicPr>
        <p:blipFill>
          <a:blip r:embed="rId1"/>
          <a:stretch/>
        </p:blipFill>
        <p:spPr>
          <a:xfrm>
            <a:off x="380880" y="444600"/>
            <a:ext cx="4876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56760" y="19828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dis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09" name="Chapter 14B.mpg" descr=""/>
          <p:cNvPicPr/>
          <p:nvPr/>
        </p:nvPicPr>
        <p:blipFill>
          <a:blip r:embed="rId5"/>
          <a:stretch/>
        </p:blipFill>
        <p:spPr>
          <a:xfrm>
            <a:off x="590400" y="461880"/>
            <a:ext cx="8020080" cy="601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uman Gen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GGGTCGCGTATCGTAGCTGATGGGGGTAGTATTTTATATGCTGGTAGACAAAACGGTGTACTGCCGTCGTCGTAGTGATGTGCGGCGCCAAAAATTATACTGTGACTGATCGTAGTGTAAAAAAAAAAGTCGTGCTGCTTTTTTCGATCGCGCGTAGTAGCTACGCCGCGGTTCGCGCGTAAGAGACTGATGCGACTGATATATATACGCGCTAGCATATATCTCTCGATCTGATCGTAGATGCTTAAGTTACTAGCTGTCGTATACGTAGTTAGTCGGGTGATGATGCTGTATATATCGCGCTCTATATGCTAGCTAGTGTTGTAGCTAGCTGATTCCCTCGAAGTCTCGTGAATAATCGCGCTTTCGGGGGCTCTCT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NA Bank and Alzheimer's Research. Illustration of DNA by L. Kubiak, NIH."/>
          <p:cNvPicPr/>
          <p:nvPr/>
        </p:nvPicPr>
        <p:blipFill>
          <a:blip r:embed="rId1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Gen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billion 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billion individual b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million pag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s (letters) spell out genes (words) that result in the phenotype (the st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pell out bad stories (dise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jolill\AppData\Local\Microsoft\Windows\Temporary Internet Files\Content.IE5\7CPA9WEO\MCj04326450000[1].png"/>
          <p:cNvPicPr/>
          <p:nvPr/>
        </p:nvPicPr>
        <p:blipFill>
          <a:blip r:embed="rId2"/>
          <a:stretch/>
        </p:blipFill>
        <p:spPr>
          <a:xfrm>
            <a:off x="7810560" y="53352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2120" y="152280"/>
          <a:ext cx="7772400" cy="650736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2606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G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9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1694880" y="-138240"/>
            <a:ext cx="5753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romosome size source: International Human Genome Sequencing Consortium. Initial sequencing and analysis of the human genome.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409:860-921(2001).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ene count source: Wellcome Trust. Unveiling your genome.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Wellcome News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Supplement Q1:13-23(2001)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x_chromoso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mans have 22 pairs of AUTOSOM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is the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ir different?  What is it calle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is picture called?  When was this cell photographe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is a man or a woman?  How do you know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Human female karyotype"/>
          <p:cNvPicPr/>
          <p:nvPr/>
        </p:nvPicPr>
        <p:blipFill>
          <a:blip r:embed="rId1"/>
          <a:stretch/>
        </p:blipFill>
        <p:spPr>
          <a:xfrm>
            <a:off x="533520" y="2286000"/>
            <a:ext cx="80010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e “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pair are the sex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is picture is a karyo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t was taken during mitosis (likely metaph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t is a 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has one X chromosome (larger) and one Y chromosome (smal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6" descr="colorblind1_bw.jpg"/>
          <p:cNvPicPr/>
          <p:nvPr/>
        </p:nvPicPr>
        <p:blipFill>
          <a:blip r:embed="rId1"/>
          <a:stretch/>
        </p:blipFill>
        <p:spPr>
          <a:xfrm>
            <a:off x="4419720" y="1905120"/>
            <a:ext cx="3962160" cy="365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d.umn.edu/cla/faculty/troufs/anth4616/images/colorblind1.jpg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793800" y="571500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blindness is an example of a sex-linked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0:58:52Z</dcterms:created>
  <dc:creator>Joanne Lilliendahl</dc:creator>
  <dc:description/>
  <dc:language>en-US</dc:language>
  <cp:lastModifiedBy>James P. Lilliendahl</cp:lastModifiedBy>
  <dcterms:modified xsi:type="dcterms:W3CDTF">2008-04-24T02:57:05Z</dcterms:modified>
  <cp:revision>36</cp:revision>
  <dc:subject/>
  <dc:title>Human Genetics</dc:title>
</cp:coreProperties>
</file>